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681D-55DD-43B3-941B-5D15D0A3DF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56A-7F81-4444-B0B1-82661019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4C4-1309-497F-9D11-130CB1C5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C1B-5115-42D0-AF51-F6ED995A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9D8-8024-4352-B464-CB95C088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658-7F94-4F5E-AEF3-2B05554D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66A-4E24-4B5D-9CA1-6FBEB777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A3F-C795-455A-8230-BCEB080D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79B-771D-44F3-9B96-6FF0E2CB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52F-58AA-447E-92B4-EBBFA48C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A40-369D-4604-AD78-AA07D8A1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267-F58C-4903-A0E5-6D0CD7DD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44D-3C16-4894-B198-446373B4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A714-3CDC-4A08-B682-9CA3AA8E7F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d181e"/>
                </a:solidFill>
                <a:latin typeface="Times New Roman"/>
              </a:rPr>
              <a:t>Topic 10 :  Making Electr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920" y="121932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6280" y="762120"/>
            <a:ext cx="85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Electricity passing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along metal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wires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flow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4920" y="1828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In a cell/battery, electricity comes from a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836640" y="28195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chem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27040" y="281952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electrical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4038480" y="3200400"/>
            <a:ext cx="762120" cy="0"/>
          </a:xfrm>
          <a:prstGeom prst="line">
            <a:avLst/>
          </a:prstGeom>
          <a:ln w="381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99160" y="3505320"/>
            <a:ext cx="80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Cells/batterie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need replaced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as th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049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are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being used up in the reaction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to supply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97360" y="5029200"/>
            <a:ext cx="74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Some 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rechargeable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00960" y="54864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nicad cells (nickel-cadmium cells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98080" y="5943600"/>
            <a:ext cx="80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the lead-acid battery used in cars/vans/b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solution was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blu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ue to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(II)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re being changed to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the blue colour f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have been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from the solution as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ment reac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ll occur when a metal is placed in a solution of metal ions,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he metal is higher in the electrochemical series than the metal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553440" y="205740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1296360" y="2819520"/>
            <a:ext cx="6255360" cy="581400"/>
            <a:chOff x="1296360" y="2819520"/>
            <a:chExt cx="6255360" cy="581400"/>
          </a:xfrm>
        </p:grpSpPr>
        <p:sp>
          <p:nvSpPr>
            <p:cNvPr id="152" name="Line 3"/>
            <p:cNvSpPr/>
            <p:nvPr/>
          </p:nvSpPr>
          <p:spPr>
            <a:xfrm>
              <a:off x="5181480" y="3124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1296360" y="281952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9"/>
          <p:cNvGrpSpPr/>
          <p:nvPr/>
        </p:nvGrpSpPr>
        <p:grpSpPr>
          <a:xfrm>
            <a:off x="1373040" y="4724280"/>
            <a:ext cx="6186960" cy="581400"/>
            <a:chOff x="1373040" y="4724280"/>
            <a:chExt cx="6186960" cy="581400"/>
          </a:xfrm>
        </p:grpSpPr>
        <p:sp>
          <p:nvSpPr>
            <p:cNvPr id="155" name="Line 4"/>
            <p:cNvSpPr/>
            <p:nvPr/>
          </p:nvSpPr>
          <p:spPr>
            <a:xfrm>
              <a:off x="5181480" y="5028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1373040" y="47242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0"/>
          <p:cNvSpPr/>
          <p:nvPr/>
        </p:nvSpPr>
        <p:spPr>
          <a:xfrm>
            <a:off x="6629760" y="5334120"/>
            <a:ext cx="13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2666880" y="251460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66680" y="1905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52280" y="3581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2666880" y="56386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1676520" y="3352680"/>
            <a:ext cx="0" cy="152424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12952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7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166" name="Line 5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6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1373040" y="3124080"/>
            <a:ext cx="6186960" cy="581400"/>
            <a:chOff x="1373040" y="3124080"/>
            <a:chExt cx="6186960" cy="581400"/>
          </a:xfrm>
        </p:grpSpPr>
        <p:sp>
          <p:nvSpPr>
            <p:cNvPr id="169" name="Line 8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1373040" y="31240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8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172" name="Line 19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in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 of their metal 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38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176" name="Rectangle 15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8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4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8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9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3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190" name="Line 31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3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4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5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36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4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197" name="Rectangle 39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46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00" name="Rectangle 41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5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03" name="Rectangle 40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7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50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06" name="Rectangle 42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5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o the lower 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2"/>
          <p:cNvSpPr/>
          <p:nvPr/>
        </p:nvSpPr>
        <p:spPr>
          <a:xfrm>
            <a:off x="0" y="5029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in th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3"/>
          <p:cNvSpPr/>
          <p:nvPr/>
        </p:nvSpPr>
        <p:spPr>
          <a:xfrm>
            <a:off x="0" y="56386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e metal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n the electrochemical s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63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13" name="Line 58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64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16" name="Line 57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purpose of the 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 (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) is t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220" name="Rectangle 4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234" name="Line 18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19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0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1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2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241" name="Rectangle 25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7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44" name="Rectangle 28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30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47" name="Rectangle 31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2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33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50" name="Rectangle 34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5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36"/>
          <p:cNvSpPr/>
          <p:nvPr/>
        </p:nvSpPr>
        <p:spPr>
          <a:xfrm>
            <a:off x="0" y="5410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hrough the ion bridge/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0" y="4952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throu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9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40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56" name="Line 41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2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3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59" name="Line 44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45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46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he movement of ions through the ion bridge completes the circ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8701b"/>
                </a:solidFill>
                <a:latin typeface="Times New Roman"/>
              </a:rPr>
              <a:t>Cells/batteries compared to mains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ase of transpor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ly portabl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/ mains electricity is no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Safet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/battery voltages/current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f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an those of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Cos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much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ore expensi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Uses of finite resourc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king cells/batterie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uses up mo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inite resources than producing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ctions of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metal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th dilute </a:t>
            </a:r>
            <a:r>
              <a:rPr b="1" lang="en-GB" sz="2800" spc="-1" strike="noStrike">
                <a:solidFill>
                  <a:srgbClr val="ed181e"/>
                </a:solidFill>
                <a:latin typeface="Times New Roman"/>
              </a:rPr>
              <a:t>acid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can establish the position of hydrogen in an electrochemical series, e.g. Magnesium and hydrochloric ac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553440" y="15238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296360" y="2286000"/>
            <a:ext cx="6255360" cy="581400"/>
            <a:chOff x="1296360" y="2286000"/>
            <a:chExt cx="6255360" cy="581400"/>
          </a:xfrm>
        </p:grpSpPr>
        <p:sp>
          <p:nvSpPr>
            <p:cNvPr id="267" name="Line 5"/>
            <p:cNvSpPr/>
            <p:nvPr/>
          </p:nvSpPr>
          <p:spPr>
            <a:xfrm>
              <a:off x="5181480" y="25909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1296360" y="228600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7"/>
          <p:cNvGrpSpPr/>
          <p:nvPr/>
        </p:nvGrpSpPr>
        <p:grpSpPr>
          <a:xfrm>
            <a:off x="1380600" y="4191120"/>
            <a:ext cx="6101640" cy="648720"/>
            <a:chOff x="1380600" y="4191120"/>
            <a:chExt cx="6101640" cy="648720"/>
          </a:xfrm>
        </p:grpSpPr>
        <p:sp>
          <p:nvSpPr>
            <p:cNvPr id="270" name="Line 8"/>
            <p:cNvSpPr/>
            <p:nvPr/>
          </p:nvSpPr>
          <p:spPr>
            <a:xfrm>
              <a:off x="5181480" y="44956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1380600" y="419112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Text Box 10"/>
          <p:cNvSpPr/>
          <p:nvPr/>
        </p:nvSpPr>
        <p:spPr>
          <a:xfrm>
            <a:off x="6629040" y="480060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1"/>
          <p:cNvSpPr/>
          <p:nvPr/>
        </p:nvSpPr>
        <p:spPr>
          <a:xfrm flipH="1">
            <a:off x="2666880" y="19810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066680" y="1371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152280" y="3048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2666880" y="510552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1676520" y="2818800"/>
            <a:ext cx="0" cy="152388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129528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0" y="57150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al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abo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in the electrochemical serie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react with dilute acid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produce hydrogen gas. Metals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below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do not reac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ith dilute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ion-electron equat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page 7 in data booklet) can be re-written to show each step in the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282" name="Line 4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1380600" y="3124080"/>
            <a:ext cx="6101640" cy="648720"/>
            <a:chOff x="1380600" y="3124080"/>
            <a:chExt cx="6101640" cy="648720"/>
          </a:xfrm>
        </p:grpSpPr>
        <p:sp>
          <p:nvSpPr>
            <p:cNvPr id="285" name="Line 7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1380600" y="312408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288" name="Line 10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os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"/>
          <p:cNvSpPr/>
          <p:nvPr/>
        </p:nvSpPr>
        <p:spPr>
          <a:xfrm flipH="1">
            <a:off x="213336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"/>
          <p:cNvSpPr/>
          <p:nvPr/>
        </p:nvSpPr>
        <p:spPr>
          <a:xfrm flipH="1">
            <a:off x="3123720" y="1219320"/>
            <a:ext cx="304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3657600" y="1219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5029200" y="1219320"/>
            <a:ext cx="1522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533412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5562720" y="1219320"/>
            <a:ext cx="14475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3886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loss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</a:t>
            </a:r>
            <a:r>
              <a:rPr b="1" lang="en-GB" sz="3200" spc="-1" strike="noStrike">
                <a:solidFill>
                  <a:srgbClr val="fa911a"/>
                </a:solidFill>
                <a:latin typeface="Times New Roman"/>
              </a:rPr>
              <a:t>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 flipH="1">
            <a:off x="2971440" y="2286000"/>
            <a:ext cx="11430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4952880" y="2286000"/>
            <a:ext cx="1447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0" y="6858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o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reaction, reduction and oxidation go on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ogeth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n example of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is an example of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d181e"/>
                </a:solidFill>
                <a:latin typeface="Times New Roman"/>
              </a:rPr>
              <a:t>D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171840" y="119556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metal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990720" y="1728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zinc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6171120" y="2033640"/>
            <a:ext cx="22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arbon r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(graph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1371600" y="3100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ammon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ammonium chloride in the cell is an example o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28600" y="56386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purpose of the </a:t>
            </a: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1232280" y="491184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226440" y="60958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--&gt;   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is show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reactant side of the arrow)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ich shows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product side of the arr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04920" y="1522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together (with an electrolyte) to for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057400" y="113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e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4920" y="17524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pair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metals connected in a cell giv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voltag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This enables us to construct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8"/>
          <p:cNvGrpSpPr/>
          <p:nvPr/>
        </p:nvGrpSpPr>
        <p:grpSpPr>
          <a:xfrm>
            <a:off x="3123720" y="3962520"/>
            <a:ext cx="2819520" cy="2666880"/>
            <a:chOff x="3123720" y="3962520"/>
            <a:chExt cx="2819520" cy="2666880"/>
          </a:xfrm>
        </p:grpSpPr>
        <p:sp>
          <p:nvSpPr>
            <p:cNvPr id="74" name="Rectangle 17"/>
            <p:cNvSpPr/>
            <p:nvPr/>
          </p:nvSpPr>
          <p:spPr>
            <a:xfrm>
              <a:off x="3124080" y="5486400"/>
              <a:ext cx="281916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3581280" y="4495680"/>
              <a:ext cx="0" cy="1981440"/>
            </a:xfrm>
            <a:prstGeom prst="line">
              <a:avLst/>
            </a:prstGeom>
            <a:ln w="7632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410080" y="4495680"/>
              <a:ext cx="0" cy="198144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4190760" y="3962520"/>
              <a:ext cx="533520" cy="53316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555720" y="4165560"/>
              <a:ext cx="635040" cy="330120"/>
            </a:xfrm>
            <a:custGeom>
              <a:avLst/>
              <a:gdLst/>
              <a:ahLst/>
              <a:rect l="l" t="t" r="r" b="b"/>
              <a:pathLst>
                <a:path w="400" h="208">
                  <a:moveTo>
                    <a:pt x="16" y="208"/>
                  </a:moveTo>
                  <a:cubicBezTo>
                    <a:pt x="8" y="176"/>
                    <a:pt x="0" y="144"/>
                    <a:pt x="16" y="112"/>
                  </a:cubicBezTo>
                  <a:cubicBezTo>
                    <a:pt x="32" y="80"/>
                    <a:pt x="48" y="32"/>
                    <a:pt x="112" y="16"/>
                  </a:cubicBezTo>
                  <a:cubicBezTo>
                    <a:pt x="176" y="0"/>
                    <a:pt x="352" y="16"/>
                    <a:pt x="400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4724280" y="4178160"/>
              <a:ext cx="711000" cy="317520"/>
            </a:xfrm>
            <a:custGeom>
              <a:avLst/>
              <a:gdLst/>
              <a:ahLst/>
              <a:rect l="l" t="t" r="r" b="b"/>
              <a:pathLst>
                <a:path w="448" h="200">
                  <a:moveTo>
                    <a:pt x="432" y="200"/>
                  </a:moveTo>
                  <a:cubicBezTo>
                    <a:pt x="440" y="164"/>
                    <a:pt x="448" y="128"/>
                    <a:pt x="432" y="104"/>
                  </a:cubicBezTo>
                  <a:cubicBezTo>
                    <a:pt x="416" y="80"/>
                    <a:pt x="392" y="72"/>
                    <a:pt x="336" y="56"/>
                  </a:cubicBezTo>
                  <a:cubicBezTo>
                    <a:pt x="280" y="40"/>
                    <a:pt x="152" y="16"/>
                    <a:pt x="96" y="8"/>
                  </a:cubicBezTo>
                  <a:cubicBezTo>
                    <a:pt x="40" y="0"/>
                    <a:pt x="20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5"/>
            <p:cNvSpPr/>
            <p:nvPr/>
          </p:nvSpPr>
          <p:spPr>
            <a:xfrm flipV="1">
              <a:off x="312408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 flipV="1">
              <a:off x="594324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7"/>
            <p:cNvSpPr/>
            <p:nvPr/>
          </p:nvSpPr>
          <p:spPr>
            <a:xfrm flipH="1">
              <a:off x="3123720" y="662940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33"/>
          <p:cNvSpPr/>
          <p:nvPr/>
        </p:nvSpPr>
        <p:spPr>
          <a:xfrm>
            <a:off x="2575080" y="27306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chemical seri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see data booklet - page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0"/>
          <p:cNvGrpSpPr/>
          <p:nvPr/>
        </p:nvGrpSpPr>
        <p:grpSpPr>
          <a:xfrm>
            <a:off x="4724280" y="3809880"/>
            <a:ext cx="2667240" cy="459720"/>
            <a:chOff x="4724280" y="3809880"/>
            <a:chExt cx="2667240" cy="459720"/>
          </a:xfrm>
        </p:grpSpPr>
        <p:sp>
          <p:nvSpPr>
            <p:cNvPr id="85" name="Text Box 31"/>
            <p:cNvSpPr/>
            <p:nvPr/>
          </p:nvSpPr>
          <p:spPr>
            <a:xfrm>
              <a:off x="5715000" y="3809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Voltme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36"/>
            <p:cNvSpPr/>
            <p:nvPr/>
          </p:nvSpPr>
          <p:spPr>
            <a:xfrm flipV="1">
              <a:off x="4724280" y="4038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39"/>
          <p:cNvGrpSpPr/>
          <p:nvPr/>
        </p:nvGrpSpPr>
        <p:grpSpPr>
          <a:xfrm>
            <a:off x="228600" y="3962520"/>
            <a:ext cx="5181480" cy="1143000"/>
            <a:chOff x="228600" y="3962520"/>
            <a:chExt cx="5181480" cy="1143000"/>
          </a:xfrm>
        </p:grpSpPr>
        <p:sp>
          <p:nvSpPr>
            <p:cNvPr id="88" name="Text Box 32"/>
            <p:cNvSpPr/>
            <p:nvPr/>
          </p:nvSpPr>
          <p:spPr>
            <a:xfrm>
              <a:off x="228600" y="3962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wo </a:t>
              </a: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differe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meta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>
              <a:off x="1828800" y="434340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5"/>
            <p:cNvSpPr/>
            <p:nvPr/>
          </p:nvSpPr>
          <p:spPr>
            <a:xfrm>
              <a:off x="1828800" y="4343400"/>
              <a:ext cx="3581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41"/>
          <p:cNvGrpSpPr/>
          <p:nvPr/>
        </p:nvGrpSpPr>
        <p:grpSpPr>
          <a:xfrm>
            <a:off x="5715000" y="5181480"/>
            <a:ext cx="2895480" cy="1191240"/>
            <a:chOff x="5715000" y="5181480"/>
            <a:chExt cx="2895480" cy="1191240"/>
          </a:xfrm>
        </p:grpSpPr>
        <p:sp>
          <p:nvSpPr>
            <p:cNvPr id="92" name="Text Box 30"/>
            <p:cNvSpPr/>
            <p:nvPr/>
          </p:nvSpPr>
          <p:spPr>
            <a:xfrm>
              <a:off x="6248520" y="518148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lectrolyte, e.g. sodium chloride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 flipV="1">
              <a:off x="5715000" y="5638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7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2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97" name="Rectangle 30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1822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39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07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415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19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f8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a91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30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4c0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87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41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26e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38160">
              <a:solidFill>
                <a:srgbClr val="f44a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i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high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he electrochemical series than c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gives electr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copper 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copper ions gaining these electron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form 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brown sol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0:47:05Z</dcterms:created>
  <dc:creator>Geo</dc:creator>
  <dc:description/>
  <dc:language>en-US</dc:language>
  <cp:lastModifiedBy>RomaK</cp:lastModifiedBy>
  <dcterms:modified xsi:type="dcterms:W3CDTF">2015-09-02T05:56:16Z</dcterms:modified>
  <cp:revision>61</cp:revision>
  <dc:subject/>
  <dc:title>Making Electricity</dc:title>
</cp:coreProperties>
</file>